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A53-AC36-42ED-AD27-98110AB2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C6E-9144-4CFB-BA59-2D660CC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06F-F953-44D5-98BA-19D637FF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9BF-AEC6-4DA9-A32C-34B7B7CA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3DF6-A2DB-45EB-B970-B94ED042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04B6-95EC-40E7-9DDF-41AFCE5E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0430-A162-44E1-A149-13181140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8252-38C2-410A-8CF7-B66D39A6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060B-7470-4522-AFE0-F248BF16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C2E3-1F4C-4413-9FC9-9EE34986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7A7E-0A30-443D-B781-08CBD6C9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38B-6CEB-4344-8AEE-25192F5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2A83-02E7-4E1D-83BC-CCDAD1D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A015-AE67-48CD-A2B2-5A167D8F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E8BD-FC14-4FB0-803A-65956534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E357-04B1-4F29-9137-27886A78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437B-F8B9-4E30-9723-23A9B7B7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56A-EA7D-40A6-AD30-1365E1C4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14D-17DF-4617-9CE5-5271AC53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4DE-9A89-4277-92D4-09407C2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AA2-3096-4E5B-A041-E2192B0E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44E-36E4-4124-AD0E-37D8F30F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7B3-BC76-461B-9581-2EB484E5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0A2-0E57-4428-A3D6-BC6961CC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424F-980F-454D-A2C7-F25974B1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89C9-938A-4730-A63D-2B455CA67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Stock Investing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Basics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Terminology Related to Stock Inv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Market Capitalizat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s is the total number of stocks issued by a corporation multiplied by the current market price of the st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are going to discuss three types of market capit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rge-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d-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mall-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Large-Cap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stocks of corporations that have market capitalizations in excess of 10 billion doll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large-cap stocks include: Exxon-Mobil (426 Billion), Microsoft (227 Billion), Wal-Mart (197 Billion), and General Electric (228 Bill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Mid-Cap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stocks of corporations that have market capitalizations of between 2 billion and 10 billion doll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mid-cap stocks include: Family Dollar (6 billion) and VeriSign (6 bill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mall-Cap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stocks of corporations that have market capitalizations of between 300 million and 2 billion doll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small-cap stocks include: The Cheesecake Factory (1.8 billion) and Ann Taylor Stores (1.4 billion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tock Exchang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ock exchange is where shares of stock are bought and s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stock exchanges include the New York Stock Exchange (NYSE) and the NASDA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sometimes referred to as securities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NYSE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York Stock Exchange is one of the world’s largest and most well known exch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3000 corporations are listed on the NY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YSE uses a combination of human floor traders and computerized tra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YSE is open between 9:30 A.M.-4:00 P.M. (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world’s largest and most well known companies are traded on the NY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xamples include: Coca-Cola, Wal-Mart, Exxon-Mobil, General Electric, and McDonald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NASDAQ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SDAQ stands for the National Association of Securities Dealers Automated Quotation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completely computerized stock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4000 corporations are listed on the NASDAQ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SDAQ was started in 197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high tech companies are listed and traded on the NASDAQ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xamples include: Microsoft, Intel, Dell, Amazon.com, Google, and Ap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7720" y="2590920"/>
            <a:ext cx="80074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okerage firm is a company that conducts securities trading (the buying and selling of stocks, bonds, mutual funds, etc…), investment research, analysis, and advisory services for its cl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e are going to talk about the differences between full-service and discount brokerage fi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791320" y="76320"/>
            <a:ext cx="3200400" cy="251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Full-Service 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560" y="1599840"/>
            <a:ext cx="9109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-service brokerage firms provide the 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zed services (research, advice, retirement planning, tax tips, etc…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lso charge the highest fees and commiss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057400" cy="30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Full-Service 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560" y="1599840"/>
            <a:ext cx="91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, full-service brokerages are best for individuals that do not have the time, level of comfort, or expertise to make their own investment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examples of full-service brokerage firms include: Merrill Lynch and Edward J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533520" y="4695840"/>
            <a:ext cx="4448160" cy="102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715000" y="4800600"/>
            <a:ext cx="2886120" cy="8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tock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ck represents ownership in a corpo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represents a proportional share in the assets and profits of the issuing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iscount 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unt brokerage firms carry out buy and sell orders for their clients but provide little or no investment advi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ees and commissions charged by discount brokerage firms are much lower than those charged by full-service fir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iscount 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9840" y="1333440"/>
            <a:ext cx="846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 brokerage firms are best for individuals that have the ability, level of comfort, and expertise to conduct their own research and make their own investment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discount brokerage firms include: E-Trade and ShareBuild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143000" y="4383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267080" y="4275000"/>
            <a:ext cx="342900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Brokerage Firms (Continued)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 Schwab and TD Ameritrade are examples of brokerage firms that offer both full and discount services to their cl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2895480" cy="322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952880" y="3459240"/>
            <a:ext cx="3197520" cy="25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Brokerage Firms (Continued)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3124080" y="3224160"/>
            <a:ext cx="2362320" cy="3351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152280" y="14479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delity and Vanguard are two of the largest mutual fund companies that also provide brokerage services to their cli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tock Performance Indicator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mon indicators of stock market performance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 Jones Industrial Average (we have already discussed this and taken notes about the D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&amp;P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SDAQ (already in your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&amp;P 500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stock index that contains 500 large compan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se companies trade on either the New York Stock Exchange (NYSE) or on the National Association of Securities Dealers Automated Quotation System (NASD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the second most watched US index after the Dow Jones Industrial Average. However, many investors feel that the S&amp;P 500 is a better indicator of the overall stock market because it contains more compa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 30 companies listed in the Dow Jones Industrial Average are also listed in the S&amp;P 500 Inde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3505320" cy="15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Types of Stock Investment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going to examine the following types of sto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-Chip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ical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sive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cks of some companies can fit into several of these categ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95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Blue-Chip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3760" y="1347840"/>
            <a:ext cx="800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stocks of the most well established and financially sound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30 of the stocks that make up the DJIA are blue-c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841920" cy="2386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6553080" y="166680"/>
            <a:ext cx="1571760" cy="1181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272280" y="3882960"/>
            <a:ext cx="2133360" cy="28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976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Income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stocks of companies that pay regular and steadily increasing divid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ypically conservative stock investments that may not appreciate (or decline) as much in value as other types of st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xon-Mobil and Proctor &amp; Gamble are examples of income st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276720" cy="24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Growth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" y="11430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stocks of companies whose earnings are expected to grow at an above avera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 stock companies often do not pay dividends. They instead invest the profits back into the company in the hopes of becoming more profi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gle and Amazon.com are  examples of growth st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631800" y="4419720"/>
            <a:ext cx="3384720" cy="2252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4910040" y="4511520"/>
            <a:ext cx="3321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Corporation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ions are legal entities owned by individual stockhol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of all businesses in the United States are classified as corpo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0% of all products sold and services provided in the United States come from corpo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types of corporations are publicly traded and privately h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Cyclical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tocks that appreciate in value quickly when economic growth is strong and fall rapidly when economic growth is decl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a, Caterpillar, and Ford are examples of cyclical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3581280" y="46720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6400800" y="4672080"/>
            <a:ext cx="22939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Defensive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tocks that remain stable during declines in the econom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-chip and income stocks like Exxon-Mobil and Proctor &amp; Gamble are examples of defensive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Why do Corporations Issue Stock?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aise financial capital that the company can use to expand its business operations, update equipment, and conduct research and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se efforts are designed to improve the corporation’s profi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Public Corporation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referred to as publicly traded or publicly held corpo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ompanies that sell their stock to the general publ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Donald’s, Wal-Mart, Home Depot, and Coca-Cola are all examples of publicly traded corpo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Private Corporation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referred to as privately held or closely held corpo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orporations that issue stock but do not sell it to the general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k-fil-A is an example of such a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Why do People Invest in Stocks?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 profit! Historically, stocks have returned around 10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ts are made from stock in two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eciation in value from the time of purchase until the time of sale (capital gai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Common Stock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tock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hareholder (person that owns the stock) has voting privileges on company mat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hareholder may receive dividends (profits of the corporation that are distributed to shareholder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greater potential for growth (appreciation in value) with common st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Preferred Stock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red Stock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areholder is guaranteed to be paid a dividend before common stock shar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areholder has virtually no voting privileges in company ma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eferred share of stock is assigned a dollar value that is printed on the stock certificate (par valu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much less fluctuation in the price of preferred stocks compared to common st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red stock is a much more conservative investment than common st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2:42:27Z</dcterms:created>
  <dc:creator>default</dc:creator>
  <dc:description/>
  <dc:language>en-US</dc:language>
  <cp:lastModifiedBy>SysAdmin</cp:lastModifiedBy>
  <dcterms:modified xsi:type="dcterms:W3CDTF">2011-12-05T14:18:30Z</dcterms:modified>
  <cp:revision>116</cp:revision>
  <dc:subject/>
  <dc:title>Stock Investing</dc:title>
</cp:coreProperties>
</file>